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466-EF65-417E-95D9-6938860F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229-4596-4C8A-8B19-FD776F21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BC7-0276-4CC9-BD98-EB59DAFD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B30-F89A-4739-AEC0-D742EFEC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DF7-3972-496A-AF25-DCD754F4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091-963B-4782-85EF-77C9A310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243-C843-4F5B-872F-84D5591A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367-EF3A-40EC-89B7-0D7EEAB9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DE8-3411-45E0-8374-EDFEE5BE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B0B-63C8-4441-ACCF-12441BCE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63E-12DD-48B4-82F8-36747533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999-3DD0-4E4A-A8CF-30414469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CF5A-299C-4966-B76B-22DE37A78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oamorder.com/graphics/beds/venice_bed_4.jpg&amp;imgrefurl=http://www.foamorder.com/sleigh_beds.html&amp;h=350&amp;w=350&amp;sz=26&amp;hl=en&amp;start=2&amp;sig2=oDniK_4X01ET9b7OdtSpXw&amp;usg=__HdV3svHx83zPaPJWBk0DfgAIrf0=&amp;tbnid=9hzJEJtVd47S1M:&amp;tbnh=120&amp;tbnw=120&amp;ei=3c7PSLXMEI6WwQGyyZkW&amp;prev=/images%3Fq%3Dbed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ecodesignz.com/Merchant2/graphics/00000001/ED_02SideChair_F.jpg&amp;imgrefurl=http://fatknowledge.blogspot.com/2008_01_01_archive.html&amp;h=460&amp;w=350&amp;sz=11&amp;hl=en&amp;start=1&amp;sig2=nOz_Vm3pBGa9WyqELc-ZwQ&amp;usg=__d2MtqUV48yjHzzRICAqbyD2v9m8=&amp;tbnid=YyqgsJOTX_8O9M:&amp;tbnh=128&amp;tbnw=97&amp;ei=Bs_PSJ-cFpfwwwH2koAO&amp;prev=/images%3Fq%3Dchair%26gbv%3D2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smartdesks.com/images/2fi-computer-desk-480.jpg&amp;imgrefurl=http://www.smartdesks.com/2fi-dual-monitor-computer-desks.asp&amp;h=360&amp;w=480&amp;sz=14&amp;hl=en&amp;start=5&amp;sig2=V8zd3aeazo5f6FXzKId0fw&amp;usg=__FBh7M_bDD9GXrGzmhu1irlNG4Gw=&amp;tbnid=WS1cRBkVwiDfXM:&amp;tbnh=97&amp;tbnw=129&amp;ei=Ss_PSLXUOJf-wgHxwZgE&amp;prev=/images%3Fq%3Ddesk%26gbv%3D2%26hl%3De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uk/imgres?imgurl=http://aavaas.com/wp-content/uploads/home-wardrobe.jpg&amp;imgrefurl=http://aavaas.com/2007/11/16/organizing-clothes-in-your-wardrobe/&amp;h=353&amp;w=390&amp;sz=30&amp;hl=en&amp;start=4&amp;sig2=ILxykgTIcyvQOP8TcRFpvg&amp;usg=__3-qVBAxrY6O9EhCj6TPTUZgnGIU=&amp;tbnid=Kv90TeDfnTUiWM:&amp;tbnh=111&amp;tbnw=123&amp;ei=oM_PSJb7J5KwwQHmtaga&amp;prev=/images%3Fq%3Dwardrobe%26gbv%3D2%26hl%3De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.uk/imgres?imgurl=http://www.maxwells-auctioneers.co.uk/images/Galary/Regency%2520period%2520bow%2520front%2520chest%2520of%2520drawers%2520250.jpg&amp;imgrefurl=http://www.maxwells-auctioneers.co.uk/gallery.htm&amp;h=963&amp;w=1000&amp;sz=45&amp;hl=en&amp;start=1&amp;sig2=lYTz4Wi7PWwa1bgds1pFkg&amp;usg=__dBNLkCkwCr01Gf5ToknxOMJC1t4=&amp;tbnid=4K9pd4htucC5dM:&amp;tbnh=143&amp;tbnw=149&amp;ei=1s_PSOKtKZfwwwHzkoAO&amp;prev=/images%3Fq%3Dchest%2Bof%2Bdrawers%26gbv%3D2%26hl%3De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.uk/imgres?imgurl=http://www.daveswoodgoods.com/images/floating-wall-shelf-24cr.jpg&amp;imgrefurl=http://www.daveswoodgoods.com/&amp;h=235&amp;w=330&amp;sz=14&amp;hl=en&amp;start=4&amp;sig2=JKGhor656ClW3V79fqHdxg&amp;usg=__o7Wbs4w22tWLl5S4mX4J3HNf8Dg=&amp;tbnid=d4VZEIQT9-tcbM:&amp;tbnh=85&amp;tbnw=119&amp;ei=HNDPSOiZJY2SxAGI4t0l&amp;prev=/images%3Fq%3Dshelf%2Bon%2Bwall%26gbv%3D2%26hl%3De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.uk/imgres?imgurl=http://secure.mcc.org/mccstore/images/RUG.jpg&amp;imgrefurl=http://secure.mcc.org/mccstore/index.php%3Fmain_page%3Dproduct_info%26cPath%3D2%26products_id%3D423&amp;h=480&amp;w=600&amp;sz=381&amp;hl=en&amp;start=1&amp;sig2=UAXUSCPSpU0r7FM2MstiPQ&amp;usg=__GMV-gT9LCfpK0RY3CbNqqkU25jE=&amp;tbnid=bNcTV5dqpz9O1M:&amp;tbnh=108&amp;tbnw=135&amp;ei=N9DPSPONOoW4wQGtzPQd&amp;prev=/images%3Fq%3Drug%26gbv%3D2%26hl%3De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.uk/imgres?imgurl=http://bearsonboard.org/teddy%2520bear.gif&amp;imgrefurl=http://bearsonboard.org/Picnic.html&amp;h=1000&amp;w=1000&amp;sz=125&amp;hl=en&amp;start=1&amp;sig2=fD0s-d6SxbD7SGQNmKYErA&amp;usg=__xh_LSKXS9inmc01duNBgkVMfPo4=&amp;tbnid=p54Ai_BE2f6PrM:&amp;tbnh=149&amp;tbnw=149&amp;ei=XtDPSJK4CIW4wQGwzPQd&amp;prev=/images%3Fq%3Dteddy%2Bbear%26gbv%3D2%26hl%3Den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.uk/imgres?imgurl=http://search.ugent.be/libtiger/img/books.jpg&amp;imgrefurl=http://lib.ugent.be/meercat&amp;h=300&amp;w=300&amp;sz=54&amp;hl=en&amp;start=3&amp;sig2=dVVm7J-PvCYTH_C6kq-tOg&amp;usg=__4QFOPZmz_duFKukq48Nby3hsujA=&amp;tbnid=QS2VJOFemIGs1M:&amp;tbnh=116&amp;tbnw=116&amp;ei=d9DPSPqHDoe2wwH8r5EW&amp;prev=/images%3Fq%3Dbooks%26gbv%3D2%26hl%3De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.uk/imgres?imgurl=http://www.deadmentellnotales.com/onlinetexts/potc/images/1poster2.jpg&amp;imgrefurl=http://www.imdb.com/title/tt0325980/posters&amp;h=480&amp;w=323&amp;sz=40&amp;hl=en&amp;start=2&amp;sig2=RXu-8bYq_OHSuYXNSJ2_8w&amp;usg=__g3dvT-fApZERkVNeB0ixJ5WSCmc=&amp;tbnid=Pk2HbbR0msyWmM:&amp;tbnh=129&amp;tbnw=87&amp;ei=gNDPSIH4G57iwgHWoLwW&amp;prev=/images%3Fq%3Dposters%26gbv%3D2%26hl%3Den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o.uk/imgres?imgurl=http://www.elitalice.com/wp-content/uploads/2007/04/tweety-bird-lamp-kids.JPG&amp;imgrefurl=http://www.elitalice.com/2007/04/09/tweety-bird-lamp/&amp;h=480&amp;w=400&amp;sz=15&amp;hl=en&amp;start=4&amp;sig2=I9y6vPi1SJrR4i8ac0nWlQ&amp;usg=__uxQ0cMrTX-kIV7ldDCLC0BH5tzQ=&amp;tbnid=de0RPZAsoRtU5M:&amp;tbnh=129&amp;tbnw=108&amp;ei=sdDPSPSXHpvIwQH8qKkK&amp;prev=/images%3Fq%3Dlamp%26gbv%3D2%26hl%3Den" TargetMode="External"/><Relationship Id="rId22" Type="http://schemas.openxmlformats.org/officeDocument/2006/relationships/image" Target="../media/image11.jpeg"/><Relationship Id="rId23" Type="http://schemas.openxmlformats.org/officeDocument/2006/relationships/hyperlink" Target="http://images.google.co.uk/imgres?imgurl=http://www.chinawholesalegift.com/pic/Horloge-Gifts/Mini-Clock/Metal-Bell-Alarm-Clock-15574192307.jpg&amp;imgrefurl=http://www.chinawholesalegift.com/Horologe-Gifts/Mini-Clock/Alarm-Clock-153127214.htm&amp;h=822&amp;w=630&amp;sz=58&amp;hl=en&amp;start=5&amp;sig2=CMXgAbtvwrdURcmZNzu5aQ&amp;usg=__G3cYpTPHDCZ7vkfOxApVyDSAQyk=&amp;tbnid=4hDpz9fKbVSwQM:&amp;tbnh=144&amp;tbnw=110&amp;ei=69DPSJWrIpqOwQGV1Z0Q&amp;prev=/images%3Fq%3Dalarm%2Bclock%26gbv%3D2%26hl%3Den" TargetMode="External"/><Relationship Id="rId24" Type="http://schemas.openxmlformats.org/officeDocument/2006/relationships/image" Target="../media/image12.jpeg"/><Relationship Id="rId25" Type="http://schemas.openxmlformats.org/officeDocument/2006/relationships/hyperlink" Target="http://images.google.co.uk/imgres?imgurl=http://www.tech2.com/media/images/uploads/2006/06/onkyo-cr-d1-mini-hifi.jpg&amp;imgrefurl=http://www.tech2.com/india/news/home-hifi-audio-systems/onkyo-cdd1-mini-hifi-with-ipod-and-wireless-pc-connectivity/686/0&amp;h=312&amp;w=589&amp;sz=26&amp;hl=en&amp;start=3&amp;sig2=QR1-p4bTjs6390MiUsXqPA&amp;usg=__Xw4jlro5Y1orJjeBBgHTPTxtogo=&amp;tbnid=zCkC9rVvGVJj4M:&amp;tbnh=72&amp;tbnw=135&amp;ei=CtHPSMzZLJvIwQGAqakK&amp;prev=/images%3Fq%3DHiFi%26gbv%3D2%26hl%3Den" TargetMode="External"/><Relationship Id="rId26" Type="http://schemas.openxmlformats.org/officeDocument/2006/relationships/image" Target="../media/image13.jpeg"/><Relationship Id="rId27" Type="http://schemas.openxmlformats.org/officeDocument/2006/relationships/hyperlink" Target="http://images.google.co.uk/imgres?imgurl=http://www.newbreedlibrarian.org/b2b/pics/TV_LCD_32__Hd_Ready_Provision.jpg&amp;imgrefurl=http://www.newbreedlibrarian.org/b2b/ultrasonic_cleaners/1/&amp;h=639&amp;w=959&amp;sz=92&amp;hl=en&amp;start=7&amp;sig2=7ZExLBTo8oAN6_JTcWiBpg&amp;usg=__8Blcfp6iziEgDjhVyphiuqUDSa4=&amp;tbnid=4J3osiIi_dDW3M:&amp;tbnh=99&amp;tbnw=148&amp;ei=K9HPSJ3jHZf-wgHuwZgE&amp;prev=/images%3Fq%3DTV%26gbv%3D2%26hl%3Den" TargetMode="External"/><Relationship Id="rId28" Type="http://schemas.openxmlformats.org/officeDocument/2006/relationships/image" Target="../media/image14.jpeg"/><Relationship Id="rId29" Type="http://schemas.openxmlformats.org/officeDocument/2006/relationships/hyperlink" Target="http://images.google.co.uk/imgres?imgurl=http://www.iusb.edu/~cted/summer/img/Computer.JPG&amp;imgrefurl=http://www.iusb.edu/~cted/fall/computers.shtml&amp;h=377&amp;w=353&amp;sz=20&amp;hl=en&amp;start=2&amp;sig2=LzMtXcCqFCtAhmQD51wsMw&amp;usg=__RuIz0vg3Hqc9fw1DtHLxRQkZm_g=&amp;tbnid=JY0zA4972ttCLM:&amp;tbnh=122&amp;tbnw=114&amp;ei=SdHPSK3mGIW4wQGtzPQd&amp;prev=/images%3Fq%3Dcomputer%26gbv%3D2%26hl%3Den" TargetMode="External"/><Relationship Id="rId30" Type="http://schemas.openxmlformats.org/officeDocument/2006/relationships/image" Target="../media/image15.jpeg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oamorder.com/graphics/beds/venice_bed_4.jpg&amp;imgrefurl=http://www.foamorder.com/sleigh_beds.html&amp;h=350&amp;w=350&amp;sz=26&amp;hl=en&amp;start=2&amp;sig2=oDniK_4X01ET9b7OdtSpXw&amp;usg=__HdV3svHx83zPaPJWBk0DfgAIrf0=&amp;tbnid=9hzJEJtVd47S1M:&amp;tbnh=120&amp;tbnw=120&amp;ei=3c7PSLXMEI6WwQGyyZkW&amp;prev=/images%3Fq%3Dbed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ecodesignz.com/Merchant2/graphics/00000001/ED_02SideChair_F.jpg&amp;imgrefurl=http://fatknowledge.blogspot.com/2008_01_01_archive.html&amp;h=460&amp;w=350&amp;sz=11&amp;hl=en&amp;start=1&amp;sig2=nOz_Vm3pBGa9WyqELc-ZwQ&amp;usg=__d2MtqUV48yjHzzRICAqbyD2v9m8=&amp;tbnid=YyqgsJOTX_8O9M:&amp;tbnh=128&amp;tbnw=97&amp;ei=Bs_PSJ-cFpfwwwH2koAO&amp;prev=/images%3Fq%3Dchair%26gbv%3D2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bearsonboard.org/teddy%2520bear.gif&amp;imgrefurl=http://bearsonboard.org/Picnic.html&amp;h=1000&amp;w=1000&amp;sz=125&amp;hl=en&amp;start=1&amp;sig2=fD0s-d6SxbD7SGQNmKYErA&amp;usg=__xh_LSKXS9inmc01duNBgkVMfPo4=&amp;tbnid=p54Ai_BE2f6PrM:&amp;tbnh=149&amp;tbnw=149&amp;ei=XtDPSJK4CIW4wQGwzPQd&amp;prev=/images%3Fq%3Dteddy%2Bbear%26gbv%3D2%26hl%3De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.uk/imgres?imgurl=http://www.chinawholesalegift.com/pic/Horloge-Gifts/Mini-Clock/Metal-Bell-Alarm-Clock-15574192307.jpg&amp;imgrefurl=http://www.chinawholesalegift.com/Horologe-Gifts/Mini-Clock/Alarm-Clock-153127214.htm&amp;h=822&amp;w=630&amp;sz=58&amp;hl=en&amp;start=5&amp;sig2=CMXgAbtvwrdURcmZNzu5aQ&amp;usg=__G3cYpTPHDCZ7vkfOxApVyDSAQyk=&amp;tbnid=4hDpz9fKbVSwQM:&amp;tbnh=144&amp;tbnw=110&amp;ei=69DPSJWrIpqOwQGV1Z0Q&amp;prev=/images%3Fq%3Dalarm%2Bclock%26gbv%3D2%26hl%3Den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google.co.uk/imgres?imgurl=http://www.elitalice.com/wp-content/uploads/2007/04/tweety-bird-lamp-kids.JPG&amp;imgrefurl=http://www.elitalice.com/2007/04/09/tweety-bird-lamp/&amp;h=480&amp;w=400&amp;sz=15&amp;hl=en&amp;start=4&amp;sig2=I9y6vPi1SJrR4i8ac0nWlQ&amp;usg=__uxQ0cMrTX-kIV7ldDCLC0BH5tzQ=&amp;tbnid=de0RPZAsoRtU5M:&amp;tbnh=129&amp;tbnw=108&amp;ei=sdDPSPSXHpvIwQH8qKkK&amp;prev=/images%3Fq%3Dlamp%26gbv%3D2%26hl%3D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.uk/imgres?imgurl=http://www.iusb.edu/~cted/summer/img/Computer.JPG&amp;imgrefurl=http://www.iusb.edu/~cted/fall/computers.shtml&amp;h=377&amp;w=353&amp;sz=20&amp;hl=en&amp;start=2&amp;sig2=LzMtXcCqFCtAhmQD51wsMw&amp;usg=__RuIz0vg3Hqc9fw1DtHLxRQkZm_g=&amp;tbnid=JY0zA4972ttCLM:&amp;tbnh=122&amp;tbnw=114&amp;ei=SdHPSK3mGIW4wQGtzPQd&amp;prev=/images%3Fq%3Dcomputer%26gbv%3D2%26hl%3Den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.uk/imgres?imgurl=http://www.tech2.com/media/images/uploads/2006/06/onkyo-cr-d1-mini-hifi.jpg&amp;imgrefurl=http://www.tech2.com/india/news/home-hifi-audio-systems/onkyo-cdd1-mini-hifi-with-ipod-and-wireless-pc-connectivity/686/0&amp;h=312&amp;w=589&amp;sz=26&amp;hl=en&amp;start=3&amp;sig2=QR1-p4bTjs6390MiUsXqPA&amp;usg=__Xw4jlro5Y1orJjeBBgHTPTxtogo=&amp;tbnid=zCkC9rVvGVJj4M:&amp;tbnh=72&amp;tbnw=135&amp;ei=CtHPSMzZLJvIwQGAqakK&amp;prev=/images%3Fq%3DHiFi%26gbv%3D2%26hl%3De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.uk/imgres?imgurl=http://aavaas.com/wp-content/uploads/home-wardrobe.jpg&amp;imgrefurl=http://aavaas.com/2007/11/16/organizing-clothes-in-your-wardrobe/&amp;h=353&amp;w=390&amp;sz=30&amp;hl=en&amp;start=4&amp;sig2=ILxykgTIcyvQOP8TcRFpvg&amp;usg=__3-qVBAxrY6O9EhCj6TPTUZgnGIU=&amp;tbnid=Kv90TeDfnTUiWM:&amp;tbnh=111&amp;tbnw=123&amp;ei=oM_PSJb7J5KwwQHmtaga&amp;prev=/images%3Fq%3Dwardrobe%26gbv%3D2%26hl%3Den" TargetMode="External"/><Relationship Id="rId16" Type="http://schemas.openxmlformats.org/officeDocument/2006/relationships/image" Target="../media/image4.jpeg"/><Relationship Id="rId17" Type="http://schemas.openxmlformats.org/officeDocument/2006/relationships/hyperlink" Target="http://images.google.co.uk/imgres?imgurl=http://www.newbreedlibrarian.org/b2b/pics/TV_LCD_32__Hd_Ready_Provision.jpg&amp;imgrefurl=http://www.newbreedlibrarian.org/b2b/ultrasonic_cleaners/1/&amp;h=639&amp;w=959&amp;sz=92&amp;hl=en&amp;start=7&amp;sig2=7ZExLBTo8oAN6_JTcWiBpg&amp;usg=__8Blcfp6iziEgDjhVyphiuqUDSa4=&amp;tbnid=4J3osiIi_dDW3M:&amp;tbnh=99&amp;tbnw=148&amp;ei=K9HPSJ3jHZf-wgHuwZgE&amp;prev=/images%3Fq%3DTV%26gbv%3D2%26hl%3Den" TargetMode="External"/><Relationship Id="rId18" Type="http://schemas.openxmlformats.org/officeDocument/2006/relationships/image" Target="../media/image14.jpeg"/><Relationship Id="rId19" Type="http://schemas.openxmlformats.org/officeDocument/2006/relationships/image" Target="../media/image7.jpe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earn 15 items of furniture in your bedroom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play brain gym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ractise spelling the ite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learn how to say who owns wh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0"/>
            <a:ext cx="129708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0"/>
            <a:ext cx="1727280" cy="1514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35640" y="0"/>
            <a:ext cx="1657440" cy="149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0"/>
            <a:ext cx="1584000" cy="1521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2349360"/>
            <a:ext cx="1584360" cy="1420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2349360"/>
            <a:ext cx="158436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851280" y="2421000"/>
            <a:ext cx="1573200" cy="141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08720" y="2349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08720" y="2276640"/>
            <a:ext cx="1368720" cy="151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4591080"/>
            <a:ext cx="1692360" cy="136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979640" y="4581360"/>
            <a:ext cx="129708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492360" y="4724280"/>
            <a:ext cx="1943280" cy="1036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5580000" y="4581360"/>
            <a:ext cx="1728720" cy="1155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380360" y="4653000"/>
            <a:ext cx="1414440" cy="151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176364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a c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2360" y="1557360"/>
            <a:ext cx="176400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1557360"/>
            <a:ext cx="176400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3789360"/>
            <a:ext cx="176364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osito de pel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3789360"/>
            <a:ext cx="176364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os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3789360"/>
            <a:ext cx="176364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os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5877000"/>
            <a:ext cx="1763640" cy="764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Un desper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5997600"/>
            <a:ext cx="176364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 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1484280"/>
            <a:ext cx="1656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557360"/>
            <a:ext cx="1908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c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óm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860640"/>
            <a:ext cx="165600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estanter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3789360"/>
            <a:ext cx="1655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50080"/>
            <a:ext cx="1655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l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á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5877000"/>
            <a:ext cx="1871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cadena de m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5877000"/>
            <a:ext cx="1655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na televisi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907920"/>
            <a:ext cx="1224000" cy="1013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916280"/>
            <a:ext cx="1103400" cy="1225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3068640"/>
            <a:ext cx="1152360" cy="103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5640" y="4221000"/>
            <a:ext cx="1025640" cy="1084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11640" y="537372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54450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5640" y="5373720"/>
            <a:ext cx="1042920" cy="839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932360" y="105264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88000" y="2276640"/>
            <a:ext cx="1511280" cy="806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716360" y="3213000"/>
            <a:ext cx="1152720" cy="1040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88000" y="4340160"/>
            <a:ext cx="12967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9"/>
          <a:stretch/>
        </p:blipFill>
        <p:spPr>
          <a:xfrm>
            <a:off x="4932360" y="5373720"/>
            <a:ext cx="1079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26028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ossess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how who owns something, a possessive adjective is used in front of the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spertad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alarm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ámpa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denad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/her /your (polite)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mari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ward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levisió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tel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ste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ur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u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sito de peluch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our (pl) teddy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m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4360" y="162864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ice how, in the example of nosotros, which is also the case for vosotros, there can be a masculine and feminine fo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ust agree with the gender of what is poss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sculin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eminin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str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st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1484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 more than one of the object, add an s to the possessive ad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mis lib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 ordenado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/hers / theirs / your (polite)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B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with ordenadores above, some nouns add an –es to become plural. These are marked with a * on your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1773360"/>
            <a:ext cx="8209080" cy="2552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UCIALLY remember, there’s no apostrophe in Spani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say John’s book, say el libro DE J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9280" y="189000"/>
            <a:ext cx="412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89000"/>
            <a:ext cx="4103640" cy="594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ward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tel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sing) teddy b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polite, plural) alar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pl) Hi-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chest of dra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ward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pl)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sing)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260280"/>
            <a:ext cx="4176720" cy="5844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 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ámp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c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Nuestros arm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televi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us ositos de pelu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desper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s alfomb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is orden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Vuestra cadena de mús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Nuestra cómo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esc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s arm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Vuestras estante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s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00:18Z</dcterms:created>
  <dc:creator>Owner1</dc:creator>
  <dc:description/>
  <dc:language>en-US</dc:language>
  <cp:lastModifiedBy>Owner1</cp:lastModifiedBy>
  <dcterms:modified xsi:type="dcterms:W3CDTF">2008-09-17T13:03:15Z</dcterms:modified>
  <cp:revision>3</cp:revision>
  <dc:subject/>
  <dc:title>Slide 1</dc:title>
</cp:coreProperties>
</file>